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CE8-DA03-4CEB-9C9F-F68742D5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83F-EE47-4CA5-970F-74ECEF3E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951-CCA5-40B7-B1F8-5EDD1AD0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63F-D4E1-41C8-892B-0F5B09B1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EF2-DE06-4715-8A8B-2B994916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1AC-FE8D-4E2A-89A5-ED442DA7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4E8-FDD7-47D5-BCB4-4D6E571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139-1BF1-4EA2-B0AE-08111CB2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900-FA59-4BDC-ACAC-12BCE98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14C-7499-45EA-AAC5-2C2C13E3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7E5-6199-46C5-AF9C-03957DF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DA9-2EB5-476A-AC8D-FB88DD17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B717-7B9B-477F-ADCC-D5D483AB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ase of Mary J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chelle Pet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Call Me Pet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me’s Pettit, Richelle Pettit. I am a palynologist from the CSI lab in Las Vegas, Nevada. I graduated from UCLA  with my doctorate in Palynology and a minor in Studliness. I have currently done investigations for Lil’ Wayne, Lindsay Lohan, and Barack Obama. I am known as the brightest young palynologist in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47644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4546440"/>
            <a:ext cx="2057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ne powder like material consisting of pollen grains that is produced by the anthers of seed pl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produced in the microsporangium of the plant, also known as the an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llen for each kind of tree or flower is distinctive to that species, so there is no definite description for what pollen in general looks like - the grains aren't even all round; the size also v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en is microscopic in most cases. It looks like tiny little yellow gr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certain seasons when pollen is produced. The pollen has to be ma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en’s function is to reprodu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 be transferred by wind, animals, or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en is distinct to every pl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juana and P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uana pollen looks green or brown and has a hairy appearance. It is mic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uana plants produce an abundance of pollen because they are wind pollin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Princi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rd’s Principal states that contact between individuals and locations leads to an exchange of trac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uana plants transfer pollen by wind transfer. Pollen can also fall off of the plant and be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en is distinct to the plant it is from, which can tell the location and possible times of the cr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in th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indeed a large quantity of marijuana pollen found in this apar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eam, “New Directions”, collected the evidence while wearing gloves and using tape. We transported the pollen to our lab and carefully examined it under a micro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len looked brown and fuzzy and had a distinct appearance matching marijuana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y background in palynology and minor in studliness gave me enough information to prove that marijuana was found in this apartment…and a lot of it at that! These college students have been smoking and selling more marijuana than Michael Phelps after the Olympic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ase closed for Pettit…Richelle Pett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417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Bongs, waterpipes, glass pipes, smoking accessories - Grasscity.com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ngs, waterpipes, glass pipes, smoking accessories - Grasscity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forum.grasscity.or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Forensic Palynology: A New Way to Catch Crook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lcome to Crime and C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crimeandclues.com/index.php/physical-evidence/trace-evidence/67-forensic-palynology-a-new-way-to-catch-crooks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Material policial, placas de policía, insignias militares y equipamiento policial y táctico. Material para el vigilante de seguridad y escolta privado. Portaplacas de policía.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erial policial, placas de policía, insignias militares y equipamiento policial y táctico. Material para el vigilante de seguridad y escolta privado. Portaplacas de policí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insigniaspolicia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Pollen - Wikipedia, the free encyclopedia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en.wikipedia.org/wiki/Pollen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University of Massachusetts Amherst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versity of Massachusetts Amher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umass.edu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. "Cannabis (drug) - Wikipedia, the free encyclopedia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en.wikipedia.org/wiki/Cannabis_(drug)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33:43Z</dcterms:created>
  <dc:creator>rpett807</dc:creator>
  <dc:description/>
  <dc:language>en-US</dc:language>
  <cp:lastModifiedBy>rpett807</cp:lastModifiedBy>
  <dcterms:modified xsi:type="dcterms:W3CDTF">2010-12-08T20:21:57Z</dcterms:modified>
  <cp:revision>4</cp:revision>
  <dc:subject/>
  <dc:title>The Case of Mary Jane</dc:title>
</cp:coreProperties>
</file>